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8A7-FE0B-45A7-B9BD-41442B27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EAE-7BFC-4DFA-B161-99FE329E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52CD5-9677-44C1-A926-13F62C3C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516B4-8190-4879-B965-C001D223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7DAF8-2EDB-4650-84FD-2DF9BE97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34233-1769-4961-8538-996343F6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2DE38-4871-4BAC-A51D-6A00B375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2D051-6C9D-4275-AAC5-6931A2A9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3D250-634B-486E-9390-EFAA9294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D19B7-7003-4698-9322-82275B7D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F7DDF-B558-49C3-8885-79E2D4F1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42892-8611-4257-888B-FD84E59A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7A0-E427-4BC6-BBAF-02A1B6B5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51F22-7E82-4592-84BF-C7E50F3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987C0-02BC-4F0E-B8EB-2644E7FE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3201F-4DF6-4808-A1DD-C7460002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594B5-CB57-4E0C-ACD6-CD1F355D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0DC1A-4EFA-40F5-8358-345101BA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F7D32-F0C0-4A27-9BCC-3BB71655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37D5A-8F2D-4CD7-B880-A42D812A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CC8DD-C2BA-43CC-953A-4AE6D725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7F083-4B30-45CB-9492-F8B9D141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603E5-873F-4A23-B273-E3B581A0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17B-6769-4D83-83F8-DE962591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11887-24AB-4834-A4F8-8F08DC8E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01B42-D77F-4B5A-929D-1DFFD278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E2F40-B606-4C26-BA39-A45F23F1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30C8B-1D1B-4F92-89CB-473B9B82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E1588-956F-4973-8562-D8449981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2385C-46A6-4A02-9A9D-91C3CC15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6FABE-2EB1-4A41-8FBC-1CB42C6A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E9FB5-B0A1-4283-B3E4-AE1347EE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13E5D-40B6-4008-8D9D-6A59E1CE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B77E1-F80B-4813-BAD7-9EBE76E1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3830-7665-4827-8942-C5FD6D2A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D4B36-CC14-424F-B560-DFAC2899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143CB-793C-4786-B004-1D9D3F43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54D00-6B30-4348-917F-1D5D0763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79390-70F4-4B7A-ACE3-56A517EB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7E898-C4A8-432D-9DF2-444C9859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BDB1A-1C4B-4CC7-9E8B-F0D20FE9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28313-F2B3-4A10-9D70-ECD6E7B5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B8A7A-7645-4F82-8A79-1DF4EEBC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AF4BE-3642-4C5A-A989-BFDB5543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5932C-5AC9-4AB4-850A-EFD71F0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0CA4-9A6A-4A7D-8245-63FFC59D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F2AF3-E2FE-471C-87B6-9810D80E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47803-25C5-4318-8375-AF74FAA9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4BAFA-12F0-4E39-A9B1-14BF5822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40F9B-7CD6-4F4F-BA2A-0E21FC96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BD262-86F6-4B0E-877E-E7109861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FFE5-198C-4F49-B61D-8EDA31CD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9908-C610-4407-A202-4BCA6011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4BE4-7683-4225-B10D-19493B29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4B46-DD3F-4C6A-98A7-452A0A2C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82F2-A4EA-4341-A60B-0E0050FC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02D-8B75-40E8-A483-AE6AA600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25E7-4181-4820-8223-54C8447B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A710-B2F4-461E-9B7D-5ECD80A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77C1-340D-4307-8C79-80C38F54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0730-835C-451D-B380-3FF6BFBD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71A0-246E-48ED-8D28-576D353D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484D-3E58-45A2-85C3-A57EE713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98721-003A-4E7F-B4BB-0CECB7EE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E1AC-8AD2-4F92-AA54-79C900AB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B988-73E6-488D-B302-121ADD9B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2CDE-E223-44C8-87F3-36B536FA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E23-2548-4B94-9AE8-D222A8C8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1751-E423-423B-B996-EE28719D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F67F-5584-49F1-9F36-7938A74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3BFA6-6010-4A50-AFDA-BAC92FDB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DC51E-12EA-437A-B805-8A843EB1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E5182-22C3-4F24-A113-F2321044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4EC6-4CA7-4D42-9E99-EA2AC8E0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6811-4D6D-4786-BCE6-C39C02FE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1968-E1B4-49F0-9BAB-2988AD32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467D-1BD5-4615-A917-A64DFFF8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A904-16F7-4930-8BDC-EF8441B6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426-4F68-4AE3-B919-B1681B78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1CF62-DCFA-47C0-8294-FDD9FB4B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9CB9B-15CB-49EB-93AF-9BA19237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847AE-21F8-4613-8110-F6131A9E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CD973-C1D6-4F2D-A545-439D59AD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B4732-8AF7-4161-BA53-FCBB0699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74199-E01A-463B-97D7-15E5353F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442CC-A578-4F2D-879B-8417ABC4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F821E-8EB3-4D5D-9288-E4F77E49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6BA96-F9D0-4B18-9EDC-00E85CEF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C6212-39FE-4A47-9A47-724B6E66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6F5-3994-4D41-AABB-6394D31A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90E1A-4649-4C76-8096-11C44D05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4911C-416E-42DA-B5D4-4F56DE04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79673-93B2-4037-8F48-B2A8C4BA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31911-BB67-427A-AD3D-CC0B9178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B6A9E-0D72-4FFC-A949-1A267061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02977-0ADA-483E-A781-A7D64745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BB131-52B5-4E6A-87AD-BD2BCB5A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C7EF7-CFF9-48A1-A5B8-A3FCCA21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5F634-4201-491D-B7F5-D8FC96D0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F76D8-4A86-4858-ACCD-AC5B7767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E77-5F03-4661-8A1A-2630F9A3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668DD-F561-4973-8D95-1B0C1CD0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4E264-2B06-4E7B-8922-A9771478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8FA06-3E11-449C-A132-6AF0BDF2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2117F-CD1E-4F42-A323-9D737FD7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CDBFA-F8AB-4343-B158-C162BDC0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3F55C-E1E7-4ED5-8028-02602889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C1CCE-55EB-4530-AAB9-004725DF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5A940-CA66-43CD-852C-175001F0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68175-D63A-47D0-8DE6-11C87B4A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A1D9F-2DE0-4978-8955-F872ED36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C69-3999-4594-8A2C-5352F8C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40EFC-E1CF-414A-9F33-3C841F5B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BAAB3-0123-4342-823B-81B9C34E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8B08B-ECB2-4725-AF7B-E00CEEA3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F60EC-8E74-48F9-9F3E-A8232CDC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948F2-4109-42DD-BAE5-63C572D5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584EE-7DE6-43DC-9924-4B97CC18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31650-2A8F-402A-8A93-DE3E37F0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EE5E9-BF23-4F93-886B-F34E6E91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49F03-0559-4332-8ECB-BF5E1D4B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E0E0-833C-4780-B643-99B6D390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01E-8FBF-49AA-9036-E3C20C22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B1780-CB18-4A47-811A-979DACC9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E863B-5F37-4C8C-B9EE-935E42E0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31080-3B14-415D-A962-81A3F0A1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6DF92-7AEB-400D-BF63-14C76D4F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A929F-D7EB-427F-B4E4-26E4C46B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28489-9666-47C8-A737-8D8E9E1B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CA414-21CD-475C-81D6-378F8969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2ED71-9AA5-43B2-BE3B-3932072F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D5278-C366-4951-ACD2-CF2AD646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A867E-B763-4B9D-8052-57F282DF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59B-E9ED-4C0D-BF89-EF097E46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84532-0DDF-42E4-8023-32A6C4C5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F9CF-DD35-485B-9ACA-6E84D053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577F5-FC81-47E3-99A7-53D15589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EBE9A-C33C-4B1F-ABA4-718B3D1F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1619D-4DAE-406B-881F-5BC2842F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7C24E-09C4-4CFB-87C1-00AF38B1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E9727-7CA3-4C30-AC6F-65E139B3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66A51-653C-4550-9654-B83AD8CE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A6FEC-7C99-4DAF-AF47-B2D15AFB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F454B-76F2-4990-A651-322C0DB2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3E58-B8D2-4316-AF59-BAD33979D4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9E6C-8E10-4A23-B03E-DB3C888E85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62D8-377B-4A36-A2B2-E5A0E2BB0D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7EB7-B92A-45F0-98A6-341C53F3AC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EFC4-2AC7-4B51-AE0A-6D4A0BF7DB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76C5-2D18-4242-8296-EFDB85F1E0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63E7-6CA8-453F-A3E1-19139BAFE0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EBDA-88BE-495E-9EAC-C2B8E9F2218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9099-F63A-417D-A9EA-F19C6DC550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A56F-C9D0-4B03-B448-48E73E1992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ED1C-FC19-49E3-935E-FBCB826806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655B-0D32-40D4-B1AA-3FEBE81E2B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86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obotný opä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zavítal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á verným odme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láskav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večné príbytky im pripra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Už teraz má rad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rdci človek t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ý v bázni zachov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vätý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í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chovaj sobotný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ätý môj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to vždy pamät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i dom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tatočne, poctiv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acuj šesť d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 sväto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oboty nezabudn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sobotný opä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vítal k 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 lásky ho člove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l Pán Boh s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v šiestich dňoch svoje dielo dokonč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iedmy 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hnal, na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y posvätil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chovaj sobotný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ätý môj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to vždy pamät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i dom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tatočne, poctiv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acuj šesť d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 sväto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oboty nezabud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sobotný radostne uvít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ňom všedných záľub sa ochotne vzd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hojným pokoj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bdarí ť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uchom svojím chce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tále sprevádz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chovaj sobotný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ätý môj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to vždy pamät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i dom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tatočne, poctiv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acuj šesť d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 sväto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oboty nezabud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07:04Z</dcterms:modified>
  <cp:revision>23</cp:revision>
  <dc:subject/>
  <dc:title>Je veľký náš Pán, on slávy je Kráľ Nech do všetkých strán  spev vrúcnych znie chvál.</dc:title>
</cp:coreProperties>
</file>